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C968-35FA-4A16-8484-C935D2C7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89F-BAD1-4065-BE3F-3E3AE43E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AAB-3ECC-4AE4-9928-0826DB0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2DB-DCCF-4A57-B079-A6AB4888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667-5DC0-4F9E-A68A-18104BF1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C85-B777-4C2F-B1F1-4783F06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832-D793-462B-8D15-C4D204E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787-02DF-4192-8E45-4F96872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99F-9AE2-4684-824F-C3455B4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990-883C-4C07-9D4B-0EE2842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801-A85D-4863-8DF7-FC804E7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FE6-53F3-4A61-A430-234F4D0E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D95-FB31-437C-BF5B-7F56EBC1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01D6-5433-4CDC-8FA7-410EB6C66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a Big K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897520" y="1828800"/>
          <a:ext cx="24066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7520" y="1828800"/>
                    <a:ext cx="2406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, but I still need my mo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43200" y="1523880"/>
          <a:ext cx="4199040" cy="49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23880"/>
                    <a:ext cx="419904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28800" y="990720"/>
            <a:ext cx="56674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dressed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8120" y="1600200"/>
          <a:ext cx="2579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2579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a drink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46440" y="1693800"/>
          <a:ext cx="184932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6440" y="1693800"/>
                    <a:ext cx="184932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4080" y="1371600"/>
          <a:ext cx="3233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371600"/>
                    <a:ext cx="32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de my bike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438280" y="1752480"/>
          <a:ext cx="441972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441972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nce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523880"/>
          <a:ext cx="3593880" cy="40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523880"/>
                    <a:ext cx="359388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on the bus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09680" y="1752480"/>
          <a:ext cx="4068720" cy="34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406872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95520" y="1711440"/>
          <a:ext cx="4152960" cy="34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5520" y="1711440"/>
                    <a:ext cx="415296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big and I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, all by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43200" y="1905120"/>
          <a:ext cx="344160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344160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943600" y="37339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ush Script MT"/>
              </a:rPr>
              <a:t>hell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8:23:02Z</dcterms:created>
  <dc:creator>SDJ</dc:creator>
  <dc:description/>
  <dc:language>en-US</dc:language>
  <cp:lastModifiedBy> </cp:lastModifiedBy>
  <dcterms:modified xsi:type="dcterms:W3CDTF">2005-01-27T19:35:30Z</dcterms:modified>
  <cp:revision>5</cp:revision>
  <dc:subject/>
  <dc:title>I’m a Big Kid</dc:title>
</cp:coreProperties>
</file>